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587A-94EA-46C9-AFBE-D1B2CFAF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76F-9205-41F5-9CC1-5E4DDF0E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51DCB-5A92-4F84-BE08-1255A37C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AD3D8-F46F-4B81-AEEF-BC19437A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E17E3-D122-4B6B-B18B-8D1F03E6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617D5-A1E1-436B-8693-02A510BD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42C4E-F839-403C-A882-095A4004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5D8FB-8494-407B-926C-D49AC025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9C4EE-3653-4BF8-9D1C-E26482A5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3F30B-13BD-433C-8825-34BE5620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3AAEA-5613-4259-9E8C-5D535F96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A498F-F29B-432E-B3D3-124F4CD8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2F1-F863-48AD-B05D-315FF615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FCBA1-C904-4807-8E14-8B50F792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04CC9-B65C-4E22-94B4-E7CA6F82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92EF7-576B-4212-BE2E-1BC9EC50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F185B-7026-4D40-8409-E2CD810A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F968A-20E3-45FF-B522-AF381956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43777-8894-4068-AD65-686BBA09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237D6-34F2-46DE-AA4C-746A9763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0DF36-C13C-4EDF-BF86-901BFB57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E5B6C-EAF6-4170-8A9A-EB4B9B34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98A8F-B05B-4F8D-A8F7-3DFA9926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CA2-F64E-44AE-A2ED-DC426CCC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AD6C8-4557-4F11-8D37-89E398C2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61D42-7575-4217-88D7-1DC40D72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5F996-6063-44CA-9E39-4773C6EF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FC9B8-A5D4-4A1B-AF51-021D6F3A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43198-189B-45EF-8AE5-97DF4B7C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E1927-C7D4-4F0F-B732-A85AA7F5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986BC-5C13-419F-87E6-CBBFBB16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6B6C9-477C-4B69-BA65-0ABBC42D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7B017-91B4-4137-8D74-23E51E13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85F0D-3659-420F-BB8E-93A46DBA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1D6E-DC00-4B6D-B8A2-2D70E20B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B227E-9A53-4528-B160-FB12B2ED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DC289-C003-44F2-BC2D-22A2344A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91C3B-1E9A-4D95-8166-DC09A2AA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1339-43A8-4C2B-8ED4-5AC6E576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DE41-55AD-48DA-99EC-6CB7C935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0825-8832-45E8-81CF-D34F6042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4623-1328-4C6A-8B35-B57D790C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942B-44BF-40F8-BBF5-81D75AB0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D41D-6137-4745-B006-DBD8F2E3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CEF-F024-45B8-9654-6137B25B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098B-561C-4DC6-9A7E-A53D162A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1A86-9801-4416-8547-FFA05D63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A9E8-AFC9-40BD-953A-5705A8F9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3F19-5098-4F7C-B57D-9B854177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49C2-22BD-4435-90AC-CB1ACEFE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5D69C-1C6E-44DA-8D84-91908A71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3D1EA-67A4-46E0-BC4A-6535A4D2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7D176-0694-431F-8D6E-09CE2D35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C29A-7E4B-4CB4-9A7D-26924FE2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76536-1144-4D2C-BF6B-903E2E8D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07F-D64D-4D4F-A1FE-9F4FA1C6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0820-9E7E-4BB8-914B-852D5171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6AC9B-405B-4BC7-AA54-5EBA018F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4139-3538-426C-88AD-8344D7A9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F30AE-0580-4C7F-BD3D-7C48FF95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69889-6813-40BA-B677-8F4C9DBB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312A0-0493-498E-95F2-05396C98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23F43-E6CD-41DF-8974-73F87288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77BED-2A03-4D5B-B146-D5558DFE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86265-9669-4A64-B7F5-5661DF35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26261-7D81-4F93-9E4E-057D33C8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F23-1587-48EA-95AC-B60EBCE9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832B6-1FBC-4A98-9925-5DA7BA26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9C10-2FF4-4C65-A785-5621075C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328AA-270A-4454-9B86-1664206D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03EF3-3E3E-4BBB-B46D-DC2C61A1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8A4C7-9F06-4995-AA9E-A673A0DD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B2C08-B2A4-4A81-91F6-7BA28519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7E4A9-EAA8-4B16-99C1-2C3E919A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84C80-B350-4BCE-B608-C7477AE1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3810F-23A9-4F1D-8228-F2DDA56C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47128-1D60-4C8F-AF06-4F93D393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EAB-1DE9-4204-9AEA-AE60377B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70E58-0180-48FF-9DFB-5C18F5DF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50B40-0823-45CE-98BE-8AE3ACB0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4D4F-C30F-486F-9D4F-FEE381CE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70022-E82B-40CD-840A-2666D82F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CDD23-33C9-4ACD-918C-45F10CFE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21AA9-9DAB-4EDB-AF91-A51817F8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90125-C3BF-4E34-8158-B3A52A00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1CD9E-C19E-49D6-B4F0-1077447D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B2702-D12E-44BD-B4B4-D5D6C88A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E0ECE-53FD-488C-ABE2-65C27E4C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625-CC3F-4D96-8C85-2F9D8D55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449E2-D7E6-461F-8958-0B79568B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41E2F-8FD3-4707-8140-91B0A14A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2EBA9-DD21-4325-A415-E541770F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DA33F-648C-41BC-8D38-8E656F76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BDAEB-7AEA-4E17-A9DE-02C8BD60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7CC3E-09E2-440E-B191-4BEF6769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9D82E-0B2B-4BA0-A882-593A79EF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BB7A1-A5B4-496F-A1B5-D8446800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1C2AE-9402-4793-B935-E7015E70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EDF97-DD10-47F3-8A27-32917FFE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A5A-CDFA-4806-926B-5E1E692B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E065B-24BF-4DB8-B935-A6337424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D9C8F-145E-44BE-B92C-A31E878A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9DE9F-DE7C-47DF-BB45-5FEFB969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74540-7D40-4C72-A369-11C53D39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0AA2B-6775-471E-B5B0-37AF24DB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B270F-C853-4F80-9692-FB36E6B5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ABDAA-7A08-43B1-A8E1-82BD2581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50249-6CAD-481D-88FC-A681BC80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5C1E5-4057-4C53-B18F-C1F5CD9A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AA34F-78C1-4701-9671-BECA6A28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479-79A4-467B-ADDA-12EE2A02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EE129-6374-4611-BC4D-5EEB01AC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617D2-BD65-43DB-A8A7-B9D6792F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11D92-25A3-44C8-AAA0-63EB472F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789CA-CBCA-4D8A-96EF-D0B5822B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6186B-DBF8-4B31-8261-0277970E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2C0CD-8D34-44AA-BC49-EB78A8CB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269CD-359A-40BD-8930-B6B1E5E7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04615-7380-4286-B5FE-AF239A22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387D6-2106-4DE6-926C-72444A7E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0F526-A33D-434F-823F-C304E06C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5E09-32FD-486C-B3BB-43E3E32D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B2802-D719-44DE-A2D4-1717488A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DA83A-BDCF-4B5D-BCCA-A930CE19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577F6-057C-4E50-80DA-419EA6EA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D1574-8E1D-415A-93EA-E351877C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43CB7-E33B-4BF3-8337-3F2AEFBD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FED5C-7B2D-4356-A41A-85B391AF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8B3C4-7BAD-42E1-89D3-A1C2E7E2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E2C8A-39FE-4749-8510-1EA570D9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076FB-97C1-4639-B242-DF01E298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792F4-7252-4DA8-ABC1-56BD9A86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EE1C-4BDE-4E10-833F-1998056415E1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1A4E-DA67-4310-8CC6-88521B7C38F2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B74F-4460-494B-B57D-CA1309D2EEC3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6"/>
          <p:cNvSpPr/>
          <p:nvPr/>
        </p:nvSpPr>
        <p:spPr>
          <a:xfrm>
            <a:off x="2714760" y="2516040"/>
            <a:ext cx="628560" cy="83844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B4DB-5C9C-4A2E-8969-5B48E304A6F5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11EB-7806-4948-96CD-A070665A318F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MH_Others_11"/>
          <p:cNvSpPr/>
          <p:nvPr/>
        </p:nvSpPr>
        <p:spPr>
          <a:xfrm>
            <a:off x="1657440" y="2664000"/>
            <a:ext cx="925560" cy="928440"/>
          </a:xfrm>
          <a:prstGeom prst="ellipse">
            <a:avLst/>
          </a:prstGeom>
          <a:solidFill>
            <a:srgbClr val="fbe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F97F-CC4C-4E3B-8213-A29F8E7898BB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EBAC-0AE3-4743-8DE2-1228929108C3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EC7F-DD29-4156-AFFF-1006438C6DB3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9415-D2B8-4CE9-938C-213C5F1B0016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9CE2-EDAE-4836-9AB2-D7CE24D09C60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D7C9-4554-4117-B222-81637CB9428E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628560" y="1534680"/>
            <a:ext cx="78868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友谊的天空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承载着我们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几多欢乐，几多幸福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兴许还有困扰和烦恼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起分享生活的点点滴滴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让友谊的芬芳洒满衣襟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让友谊的彩虹点亮青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矩形 4" descr=""/>
          <p:cNvPicPr/>
          <p:nvPr/>
        </p:nvPicPr>
        <p:blipFill>
          <a:blip r:embed="rId1"/>
          <a:stretch/>
        </p:blipFill>
        <p:spPr>
          <a:xfrm>
            <a:off x="1706400" y="347760"/>
            <a:ext cx="4773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642960" y="1285920"/>
            <a:ext cx="7929720" cy="29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上初中了，你的朋友圈发生了什么变化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2643120" y="57168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说说心里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Picture 4" descr="BD14595_"/>
          <p:cNvPicPr/>
          <p:nvPr/>
        </p:nvPicPr>
        <p:blipFill>
          <a:blip r:embed="rId1"/>
          <a:stretch/>
        </p:blipFill>
        <p:spPr>
          <a:xfrm>
            <a:off x="1714680" y="1214280"/>
            <a:ext cx="5143320" cy="142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1357200" y="2928960"/>
            <a:ext cx="6858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Box 9"/>
          <p:cNvSpPr/>
          <p:nvPr/>
        </p:nvSpPr>
        <p:spPr>
          <a:xfrm>
            <a:off x="1071720" y="2000160"/>
            <a:ext cx="7000560" cy="642600"/>
          </a:xfrm>
          <a:prstGeom prst="rect">
            <a:avLst/>
          </a:prstGeom>
          <a:solidFill>
            <a:srgbClr val="b4c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由</a:t>
            </a: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熟悉</a:t>
            </a: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到</a:t>
            </a: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加了几分陌生</a:t>
            </a: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；有的同学朋友圈扩大了，交往内容更丰富了；有的同学朋友圈比以前变小了，但交往更加深入，朋友关系更加密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10"/>
          <p:cNvSpPr/>
          <p:nvPr/>
        </p:nvSpPr>
        <p:spPr>
          <a:xfrm>
            <a:off x="1214280" y="5000760"/>
            <a:ext cx="6000840" cy="1191240"/>
          </a:xfrm>
          <a:prstGeom prst="rect">
            <a:avLst/>
          </a:prstGeom>
          <a:solidFill>
            <a:srgbClr val="b4c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与新同学交往缺乏感情基础；不被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解，甚至容易被误解；担心被拒绝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642960" y="4119480"/>
            <a:ext cx="7929720" cy="29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在新环境中交友，你遇到了什么困难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2" descr="http://pic2.ooopic.com/12/98/76/77b1OOOPIC75.jpg"/>
          <p:cNvPicPr/>
          <p:nvPr/>
        </p:nvPicPr>
        <p:blipFill>
          <a:blip r:embed="rId2"/>
          <a:stretch/>
        </p:blipFill>
        <p:spPr>
          <a:xfrm>
            <a:off x="7358040" y="5072040"/>
            <a:ext cx="1155600" cy="1198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矩形 1"/>
          <p:cNvSpPr/>
          <p:nvPr/>
        </p:nvSpPr>
        <p:spPr>
          <a:xfrm>
            <a:off x="2509920" y="8809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你会因为这些困难而拒绝友谊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文本框 3"/>
          <p:cNvSpPr/>
          <p:nvPr/>
        </p:nvSpPr>
        <p:spPr>
          <a:xfrm>
            <a:off x="884160" y="2424240"/>
            <a:ext cx="65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对友谊的渴望，是我们的心理需要，没有朋友，会感到孤单、寂寞的。在与朋友的交往中，有欢笑也有泪水；有甜蜜也有苦涩，这都是正常现象。如果我们经常对自己的朋友关系进行梳理，我们可以更好的察觉自己对友谊的真正期待，逐渐学会处理交友中遇到的各种问题，收获更加纯真的友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文本框 1"/>
          <p:cNvSpPr/>
          <p:nvPr/>
        </p:nvSpPr>
        <p:spPr>
          <a:xfrm>
            <a:off x="163440" y="239760"/>
            <a:ext cx="873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）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朋友圈的变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随着年龄的增长，也许有人发现，自己的交往范围扩大了，朋友圈也扩大了，交往内容更丰富了；也许有人发现，自己的朋友圈比以前要小了，但是交往更加深入，朋友关系更加密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文本框 1" descr=""/>
          <p:cNvPicPr/>
          <p:nvPr/>
        </p:nvPicPr>
        <p:blipFill>
          <a:blip r:embed="rId1"/>
          <a:stretch/>
        </p:blipFill>
        <p:spPr>
          <a:xfrm>
            <a:off x="163440" y="3340080"/>
            <a:ext cx="8731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矩形 1"/>
          <p:cNvSpPr/>
          <p:nvPr/>
        </p:nvSpPr>
        <p:spPr>
          <a:xfrm>
            <a:off x="719640" y="204840"/>
            <a:ext cx="22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友谊的力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文本框 2"/>
          <p:cNvSpPr/>
          <p:nvPr/>
        </p:nvSpPr>
        <p:spPr>
          <a:xfrm>
            <a:off x="54000" y="995400"/>
            <a:ext cx="90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来自于同一所小学，进入初中分到同班的小红和小丽很快的变成了好朋友。小红很喜欢唱歌，经常向小丽展示自己美妙的歌声，时间久了小丽也渐渐爱上了音乐；小丽特别喜欢打乒乓球，小红就成了陪练，由于经常在一起打球，小红的乒乓球球技大增。由于热衷于爱好，小丽的成绩直线下滑，排名在班级位于中下游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丽因为成绩的缘故一直很沮丧，小红就提出每次放学后帮她补习功课，渐渐地小丽的成绩上来了，从课下一起玩耍、课上一起学习，再到周末相约一起游玩，小红和小丽成为了无话不谈的好朋友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文本框 3"/>
          <p:cNvSpPr/>
          <p:nvPr/>
        </p:nvSpPr>
        <p:spPr>
          <a:xfrm>
            <a:off x="54000" y="5060880"/>
            <a:ext cx="83757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ff0066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  <a:ea typeface="宋体"/>
              </a:rPr>
              <a:t>）小红和小丽各自发生了什么样的变化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ff0066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  <a:ea typeface="宋体"/>
              </a:rPr>
              <a:t>）这些变化产生的原因是什么呢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ff0066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  <a:ea typeface="宋体"/>
              </a:rPr>
              <a:t>）同学们，你们有从中获得了什么样的启示呢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36440" y="2454840"/>
            <a:ext cx="91234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222a35"/>
                </a:solidFill>
                <a:latin typeface="微软雅黑"/>
                <a:ea typeface="微软雅黑"/>
              </a:rPr>
              <a:t>      </a:t>
            </a:r>
            <a:r>
              <a:rPr b="0" sz="2800" spc="-1" strike="noStrike">
                <a:solidFill>
                  <a:srgbClr val="222a35"/>
                </a:solidFill>
                <a:latin typeface="微软雅黑"/>
                <a:ea typeface="微软雅黑"/>
              </a:rPr>
              <a:t>1. </a:t>
            </a:r>
            <a:r>
              <a:rPr b="0" sz="2800" spc="-1" strike="noStrike">
                <a:solidFill>
                  <a:srgbClr val="222a35"/>
                </a:solidFill>
                <a:latin typeface="微软雅黑"/>
                <a:ea typeface="微软雅黑"/>
              </a:rPr>
              <a:t>朋友对一个人的影响很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</a:t>
            </a:r>
            <a:r>
              <a:rPr b="0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近朱者赤、近墨者黑。”</a:t>
            </a:r>
            <a:r>
              <a:rPr b="0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朋友对一个人的影响很大，我们的言谈举止、兴趣爱好甚至性格等都或多或少地受到朋友的影响。</a:t>
            </a:r>
            <a:r>
              <a:rPr b="0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（有积极正面影响，也有消极负面影响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朋友喜欢的事情，我们会去尝试；朋友正在做的事情，我们会去关注。与乐观开朗的朋友相处，我们会变得豁达；与乐于助人的朋友相处，我们会变得富有爱心；与热爱学习的朋友交往，我们会变得乐学善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从正直善良的朋友那里，我学会了正直、善良；从学习习惯良好的朋友那里，我养成了良好的学习习惯；从文明礼貌的朋友那里，我懂得了文明礼貌</a:t>
            </a:r>
            <a:r>
              <a:rPr b="0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文本框 1" descr=""/>
          <p:cNvPicPr/>
          <p:nvPr/>
        </p:nvPicPr>
        <p:blipFill>
          <a:blip r:embed="rId1"/>
          <a:stretch/>
        </p:blipFill>
        <p:spPr>
          <a:xfrm>
            <a:off x="-22320" y="254160"/>
            <a:ext cx="9299520" cy="3632040"/>
          </a:xfrm>
          <a:prstGeom prst="rect">
            <a:avLst/>
          </a:prstGeom>
          <a:ln w="0">
            <a:noFill/>
          </a:ln>
        </p:spPr>
      </p:pic>
      <p:sp>
        <p:nvSpPr>
          <p:cNvPr id="489" name="文本框 2"/>
          <p:cNvSpPr/>
          <p:nvPr/>
        </p:nvSpPr>
        <p:spPr>
          <a:xfrm>
            <a:off x="184320" y="2816280"/>
            <a:ext cx="89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）朋友丰富了我们的生活经验，友谊让我们更深刻地体悟生命的美好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孔子说：“友直，友谅，友多闻，益矣。”与正直、诚信和见识广的人交朋友，是有益的，要善交益友。朋友丰富了我们的生活经验，友谊让我们更深刻地体悟生命的美好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文本框 3"/>
          <p:cNvSpPr/>
          <p:nvPr/>
        </p:nvSpPr>
        <p:spPr>
          <a:xfrm>
            <a:off x="184320" y="4954680"/>
            <a:ext cx="90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sz="2400" spc="-1" strike="noStrike">
                <a:solidFill>
                  <a:srgbClr val="c00000"/>
                </a:solidFill>
                <a:latin typeface="Arial"/>
                <a:ea typeface="黑体"/>
              </a:rPr>
              <a:t>3</a:t>
            </a:r>
            <a:r>
              <a:rPr b="1" sz="2400" spc="-1" strike="noStrike">
                <a:solidFill>
                  <a:srgbClr val="c00000"/>
                </a:solidFill>
                <a:latin typeface="Arial"/>
                <a:ea typeface="黑体"/>
              </a:rPr>
              <a:t>）朋友带给我们的温暖、支持和力量，让我们感受生活的美好，在人生的旅途上，朋友伴我们同行，友谊照亮我们人生之路</a:t>
            </a:r>
            <a:r>
              <a:rPr b="1" sz="1800" spc="-1" strike="noStrike">
                <a:solidFill>
                  <a:srgbClr val="c00000"/>
                </a:solidFill>
                <a:latin typeface="Arial"/>
                <a:ea typeface="黑体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文本框 4"/>
          <p:cNvSpPr/>
          <p:nvPr/>
        </p:nvSpPr>
        <p:spPr>
          <a:xfrm>
            <a:off x="184320" y="5994360"/>
            <a:ext cx="81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sz="2400" spc="-1" strike="noStrike">
                <a:solidFill>
                  <a:srgbClr val="c00000"/>
                </a:solidFill>
                <a:latin typeface="Arial"/>
                <a:ea typeface="黑体"/>
              </a:rPr>
              <a:t>4</a:t>
            </a:r>
            <a:r>
              <a:rPr b="1" sz="2400" spc="-1" strike="noStrike">
                <a:solidFill>
                  <a:srgbClr val="c00000"/>
                </a:solidFill>
                <a:latin typeface="Arial"/>
                <a:ea typeface="黑体"/>
              </a:rPr>
              <a:t>）朋友可以分享快乐、分担痛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MH_Desc_1" descr=""/>
          <p:cNvPicPr/>
          <p:nvPr/>
        </p:nvPicPr>
        <p:blipFill>
          <a:blip r:embed="rId1"/>
          <a:stretch/>
        </p:blipFill>
        <p:spPr>
          <a:xfrm>
            <a:off x="320760" y="787320"/>
            <a:ext cx="8531280" cy="4984920"/>
          </a:xfrm>
          <a:prstGeom prst="rect">
            <a:avLst/>
          </a:prstGeom>
          <a:ln w="0">
            <a:noFill/>
          </a:ln>
        </p:spPr>
      </p:pic>
      <p:sp>
        <p:nvSpPr>
          <p:cNvPr id="493" name="矩形 1"/>
          <p:cNvSpPr/>
          <p:nvPr/>
        </p:nvSpPr>
        <p:spPr>
          <a:xfrm>
            <a:off x="152280" y="410544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5a11"/>
                </a:solidFill>
                <a:latin typeface="Arial"/>
                <a:ea typeface="黑体"/>
              </a:rPr>
              <a:t>读了这则故事中，你有什么样的感受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文本框 2" descr=""/>
          <p:cNvPicPr/>
          <p:nvPr/>
        </p:nvPicPr>
        <p:blipFill>
          <a:blip r:embed="rId2"/>
          <a:stretch/>
        </p:blipFill>
        <p:spPr>
          <a:xfrm>
            <a:off x="466560" y="58680"/>
            <a:ext cx="1960560" cy="73512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3"/>
          <p:cNvSpPr/>
          <p:nvPr/>
        </p:nvSpPr>
        <p:spPr>
          <a:xfrm>
            <a:off x="152280" y="4749840"/>
            <a:ext cx="8253360" cy="45972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真正的友谊，不是花言巧语，而是关键时候拉你的那只手。那些整日围在你身边，让你有些许小欢喜的朋友，不一定是真正的朋友。而那些看似远离，实际上时刻关注着你的人，在你快乐的时候，不去奉承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你需要的时候，默默为你付出、关心你的人，那才是真正的朋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文本框 1"/>
          <p:cNvSpPr/>
          <p:nvPr/>
        </p:nvSpPr>
        <p:spPr>
          <a:xfrm>
            <a:off x="301680" y="946080"/>
            <a:ext cx="87631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茫茫人海，芸芸众生，与你擦肩的人很多，和你相识的人不计其数，但和你没有血缘亲情，却默默关心你、牵挂你、在乎你、帮助你，这就是朋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朋友，是你高兴时想见的人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朋友是烦恼时寻找的人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朋友是得到帮助时不需要说谢谢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朋友是打扰时不要对不起的人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朋友可以一起哭，一起笑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一起雨中散步，一起泥地上打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朋友不一定常联系，不一定常见面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从来不需要想起，永远也不会忘记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朋友是肩膀，可以让你靠着哭泣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有朋自远方来不亦乐乎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有朋友的日子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鲜花盛开，阳光灿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矩形 2"/>
          <p:cNvSpPr/>
          <p:nvPr/>
        </p:nvSpPr>
        <p:spPr>
          <a:xfrm>
            <a:off x="462960" y="244440"/>
            <a:ext cx="10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启示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203864"/>
                </a:solidFill>
                <a:latin typeface="Arial"/>
              </a:rPr>
              <a:t>课堂小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文本占位符 13314" descr=""/>
          <p:cNvPicPr/>
          <p:nvPr/>
        </p:nvPicPr>
        <p:blipFill>
          <a:blip r:embed="rId1"/>
          <a:stretch/>
        </p:blipFill>
        <p:spPr>
          <a:xfrm>
            <a:off x="628560" y="1509840"/>
            <a:ext cx="78868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1"/>
          <p:cNvSpPr/>
          <p:nvPr/>
        </p:nvSpPr>
        <p:spPr>
          <a:xfrm>
            <a:off x="2166840" y="539640"/>
            <a:ext cx="47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我们需要真诚友善的朋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文本框 2"/>
          <p:cNvSpPr/>
          <p:nvPr/>
        </p:nvSpPr>
        <p:spPr>
          <a:xfrm>
            <a:off x="1555920" y="3368520"/>
            <a:ext cx="603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因为朋友，我们少了几分孤独，多了些许温暖，活得更加自在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因为朋友，我们感受到自身的价值，多了一份对自己的欣赏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因为朋友，我们学会了更好的与人相处，享受交往的快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矩形 3"/>
          <p:cNvSpPr/>
          <p:nvPr/>
        </p:nvSpPr>
        <p:spPr>
          <a:xfrm>
            <a:off x="2511360" y="166356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cbad"/>
                </a:solidFill>
                <a:latin typeface="Arial"/>
                <a:ea typeface="黑体"/>
              </a:rPr>
              <a:t>真正的友谊可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cbad"/>
                </a:solidFill>
                <a:latin typeface="Arial"/>
                <a:ea typeface="黑体"/>
              </a:rPr>
              <a:t>让我们更深刻的体悟生命的美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矩形 2" descr=""/>
          <p:cNvPicPr/>
          <p:nvPr/>
        </p:nvPicPr>
        <p:blipFill>
          <a:blip r:embed="rId1"/>
          <a:stretch/>
        </p:blipFill>
        <p:spPr>
          <a:xfrm>
            <a:off x="1143000" y="3643200"/>
            <a:ext cx="6500880" cy="1322640"/>
          </a:xfrm>
          <a:prstGeom prst="rect">
            <a:avLst/>
          </a:prstGeom>
          <a:ln w="0">
            <a:noFill/>
          </a:ln>
        </p:spPr>
      </p:pic>
      <p:sp>
        <p:nvSpPr>
          <p:cNvPr id="456" name="文本框 1"/>
          <p:cNvSpPr/>
          <p:nvPr/>
        </p:nvSpPr>
        <p:spPr>
          <a:xfrm>
            <a:off x="619200" y="750960"/>
            <a:ext cx="546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单元   友谊的天空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四课 友谊与成长同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28600" y="358200"/>
            <a:ext cx="86104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2608200" y="1751400"/>
            <a:ext cx="5891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孔子说：“有三种有益的朋友，有三种有害的朋友。同正直的人交朋友，同诚实的人交朋友，同见多识广的人交朋友，这是有益的。同阿谀奉承的人交朋友，同当面恭维，背后诽谤的人交朋友，同花言巧语的人交朋友，这是有害的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图片 1" descr=""/>
          <p:cNvPicPr/>
          <p:nvPr/>
        </p:nvPicPr>
        <p:blipFill>
          <a:blip r:embed="rId1"/>
          <a:stretch/>
        </p:blipFill>
        <p:spPr>
          <a:xfrm>
            <a:off x="228600" y="182520"/>
            <a:ext cx="2141640" cy="3076560"/>
          </a:xfrm>
          <a:prstGeom prst="rect">
            <a:avLst/>
          </a:prstGeom>
          <a:ln w="0">
            <a:noFill/>
          </a:ln>
        </p:spPr>
      </p:pic>
      <p:sp>
        <p:nvSpPr>
          <p:cNvPr id="506" name="文本框 2"/>
          <p:cNvSpPr/>
          <p:nvPr/>
        </p:nvSpPr>
        <p:spPr>
          <a:xfrm>
            <a:off x="228600" y="4476600"/>
            <a:ext cx="6978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叶根友毛笔行书2.0版"/>
                <a:ea typeface="叶根友毛笔行书2.0版"/>
              </a:rPr>
              <a:t>所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我们要与正直、诚信和见识广的交朋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文本框 1"/>
          <p:cNvSpPr/>
          <p:nvPr/>
        </p:nvSpPr>
        <p:spPr>
          <a:xfrm>
            <a:off x="174600" y="69840"/>
            <a:ext cx="83296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、嗷嗷待哺的婴儿主要是与妈妈交流，蹒跚学步的孩子主要在父母的引导下逐步跑跳自如，咿呀学语的幼儿开始与熟悉的小朋友一起嬉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上述现象（   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说明了人随着年龄的增长，交往的范围会逐步由内圈向外圈扩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启示我们积极交往，不断扩大交往范围，提高交往能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说明了由内圈向外圈发展，越快越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④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说明了人们都会交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①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③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①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.②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文本框 2"/>
          <p:cNvSpPr/>
          <p:nvPr/>
        </p:nvSpPr>
        <p:spPr>
          <a:xfrm>
            <a:off x="174600" y="4705200"/>
            <a:ext cx="8866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、“海内存知己，天涯若比邻”高度地概括了“友情深厚，江山难阻”的情景。下列选项中对友情的认识不正确的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  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友情是我们健康成长中不可缺少的精神营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友情能给我们温暖和力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友情能让我们获得幸福和欢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友情没有好坏之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文本框 3"/>
          <p:cNvSpPr/>
          <p:nvPr/>
        </p:nvSpPr>
        <p:spPr>
          <a:xfrm>
            <a:off x="6480" y="2311560"/>
            <a:ext cx="93135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、交往越广泛越有利于我们拓宽视野，下列同学扩大交往圈的做法正确的是（   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小明积极参加环保宣传的公益活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小丽报名参加了暑假兴趣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小华通过网络认识了一位英国同龄人，互相学习对方的语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④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小叶认识了几名社会青年，常常在一起称兄道弟，吃喝玩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①③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②③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①②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.①②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3360" y="69840"/>
            <a:ext cx="236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友谊万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72520" y="847440"/>
            <a:ext cx="87822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一个路人发现有一堆泥土散发出芬芳的清香，于是就把它带回家。一时间他的家里满室清香。他惊讶地问这堆泥土：亲爱的泥土，你是大城市里来的珍宝，还是一块稀有珍贵的香料呢？或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...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泥土回答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都不是，我只是一块普通的泥土而已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那人又问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那你身上馥郁的清香是从哪里来的呢？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泥土说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我只是在玫瑰园里和玫瑰相处久了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这个故事给你怎样的启发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你对友谊是怎样认识的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文本框 3"/>
          <p:cNvSpPr/>
          <p:nvPr/>
        </p:nvSpPr>
        <p:spPr>
          <a:xfrm>
            <a:off x="358920" y="3673440"/>
            <a:ext cx="78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  <a:ea typeface="黑体"/>
              </a:rPr>
              <a:t>与道德高尚，诚实善良、正直的人交朋友，对自己的有积极的影响，有利于自己成长进步，要善交益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文本框 5"/>
          <p:cNvSpPr/>
          <p:nvPr/>
        </p:nvSpPr>
        <p:spPr>
          <a:xfrm>
            <a:off x="272880" y="5137200"/>
            <a:ext cx="84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c00000"/>
                </a:solidFill>
                <a:latin typeface="Arial"/>
                <a:ea typeface="黑体"/>
              </a:rPr>
              <a:t>朋友，见证了我们一路走过的历程</a:t>
            </a:r>
            <a:r>
              <a:rPr b="0" sz="2000" spc="-1" strike="noStrike">
                <a:solidFill>
                  <a:srgbClr val="c00000"/>
                </a:solidFill>
                <a:latin typeface="Arial"/>
                <a:ea typeface="黑体"/>
              </a:rPr>
              <a:t>。</a:t>
            </a:r>
            <a:r>
              <a:rPr b="1" sz="2000" spc="-1" strike="noStrike">
                <a:solidFill>
                  <a:srgbClr val="c00000"/>
                </a:solidFill>
                <a:latin typeface="Arial"/>
                <a:ea typeface="黑体"/>
              </a:rPr>
              <a:t>朋友丰富了我们的生活经验，友谊让我们更深刻地体悟生命的美好。朋友带给我们的温暖、支持和力量，让我们感受生活的美好，在人生的旅途上，朋友伴我们同行，友谊照亮我们人生之路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朋友是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28560" y="1534680"/>
            <a:ext cx="78868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朋友是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是伤心时，最想见的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是打扰了，不用说对不起的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是高升了，也不用改变称呼的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是天涯海角，都彼此挂念的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缘是天意，份是人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知音是贴切的默契，知己是完美的深交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朋友是生生世世的牵挂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我不在乎生命中经历过的酸甜苦辣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却很在乎随处可见的真诚和感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MH_Desc_1"/>
          <p:cNvSpPr/>
          <p:nvPr/>
        </p:nvSpPr>
        <p:spPr>
          <a:xfrm>
            <a:off x="1209600" y="912960"/>
            <a:ext cx="7539120" cy="3754440"/>
          </a:xfrm>
          <a:prstGeom prst="pie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朋友本不该有那么重要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朋友又的确那么重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生命里或许可以没有感动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没有胜利没有其他的东西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但不能没有的是朋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矩形 3" descr=""/>
          <p:cNvPicPr/>
          <p:nvPr/>
        </p:nvPicPr>
        <p:blipFill>
          <a:blip r:embed="rId1"/>
          <a:stretch/>
        </p:blipFill>
        <p:spPr>
          <a:xfrm>
            <a:off x="623880" y="5375160"/>
            <a:ext cx="821844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文本框 1"/>
          <p:cNvSpPr/>
          <p:nvPr/>
        </p:nvSpPr>
        <p:spPr>
          <a:xfrm>
            <a:off x="312840" y="606600"/>
            <a:ext cx="8178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朋友，就是能够陪你欢笑、陪你哭的人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朋友，就是身处困境依然愿意帮助你解决的人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朋友，就是所有人都误解你却依然愿意相信你的人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朋友，就是犯错时能够直言不讳指出来的人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朋友，就是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文本框 1"/>
          <p:cNvSpPr/>
          <p:nvPr/>
        </p:nvSpPr>
        <p:spPr>
          <a:xfrm>
            <a:off x="225360" y="1197000"/>
            <a:ext cx="869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小学时小红一直是小玲最亲密的朋友，但现在升入初中后情况有了变化：她们在同一所学校的不同班级，只有在中午和下午放学后才匆匆相见。喜欢打排球的小红有了一些新朋友，她与球友们玩得很开心，似乎不太看重与小玲的友谊，对苦闷的小玲也不关心。小玲虽然也想学打排球，但对加入小红的朋友圈并不感兴趣，她希望能像以前那样，只和小红在一起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小玲的想法对吗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文本框 2"/>
          <p:cNvSpPr/>
          <p:nvPr/>
        </p:nvSpPr>
        <p:spPr>
          <a:xfrm>
            <a:off x="691200" y="270000"/>
            <a:ext cx="21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d0d0d"/>
                </a:solidFill>
                <a:latin typeface="Arial"/>
                <a:ea typeface="宋体"/>
              </a:rPr>
              <a:t>我的朋友圈</a:t>
            </a: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文本框 2"/>
          <p:cNvSpPr/>
          <p:nvPr/>
        </p:nvSpPr>
        <p:spPr>
          <a:xfrm>
            <a:off x="281160" y="5067360"/>
            <a:ext cx="8231040" cy="459720"/>
          </a:xfrm>
          <a:prstGeom prst="rect">
            <a:avLst/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不对。随着年龄的增长，自己交往的范围扩大了，朋友圈越来越大，朋友越来越多，也有的朋友圈有利于小了，但交往更加深入，朋友关系更加密切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文本框 1"/>
          <p:cNvSpPr/>
          <p:nvPr/>
        </p:nvSpPr>
        <p:spPr>
          <a:xfrm>
            <a:off x="-25560" y="730080"/>
            <a:ext cx="908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）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朋友成为越来越重要的部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长大，意味着什么？像小鸟羽翼日渐丰满，有了振翅高飞的渴望；外面的世界如此广阔，我们渴望有人相伴一起飞翔。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伙伴、同学、朋友，成为我们生命中越来越重要的部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矩形 1" descr=""/>
          <p:cNvPicPr/>
          <p:nvPr/>
        </p:nvPicPr>
        <p:blipFill>
          <a:blip r:embed="rId1"/>
          <a:stretch/>
        </p:blipFill>
        <p:spPr>
          <a:xfrm>
            <a:off x="2643120" y="343080"/>
            <a:ext cx="3933720" cy="823680"/>
          </a:xfrm>
          <a:prstGeom prst="rect">
            <a:avLst/>
          </a:prstGeom>
          <a:ln w="0">
            <a:noFill/>
          </a:ln>
        </p:spPr>
      </p:pic>
      <p:sp>
        <p:nvSpPr>
          <p:cNvPr id="471" name="文本框 3"/>
          <p:cNvSpPr/>
          <p:nvPr/>
        </p:nvSpPr>
        <p:spPr>
          <a:xfrm>
            <a:off x="642960" y="1533600"/>
            <a:ext cx="797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儿时，我们有自己的玩伴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小学，我们有了自己的朋友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初中，我们虽然会想念之前的朋友，但是也会迎来新的友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如此往复，迎来送往，每个阶段我们都会离开老朋友，结识新朋友，直到我们生命终结的时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而这些伙伴、同学、朋友陪伴着我们看遍世间繁华、走遍世界各地，渐渐地成为我们生命中越来越重要的部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9T04:52:35Z</dcterms:created>
  <dc:creator/>
  <dc:description/>
  <dc:language>en-US</dc:language>
  <cp:lastModifiedBy>Administrator</cp:lastModifiedBy>
  <dcterms:modified xsi:type="dcterms:W3CDTF">2017-09-18T08:15:3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